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jeop.wav" ContentType="audio/x-wav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BC6E-D13A-4D29-B562-EB5824422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FB5E-8EEC-485E-93A3-FAE467B1E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E602-484D-45B5-8F77-1376222E5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9175-8184-4BBF-B463-B885B9027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0F85D-99FA-4B32-AE04-191030D65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3CA8C-2DB2-42D7-A24A-0E9DD822A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3A2AB-4E4A-4A85-BCC7-44355BA70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B62DA-0752-43FE-A68A-3239EF5C3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5C564-1246-4A5A-92AB-5DA897AFD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01650-6C70-42C7-BAC7-223664288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273E0-1EBD-4918-9336-00EB53774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CA77-FED2-4BE2-82FF-78E9FE38B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099CA-D6FA-44A6-AD1F-7BCF60B0F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421EE-9CC8-45F1-80DD-FA5E69EF7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D860C-7312-493B-BDF2-97CEF889D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F454C-5B7E-4589-8690-9C3B80A13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A94AF-256D-4AED-B780-39FC666F2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D80B-E9DF-4128-9ED2-C50ADD0BC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8689-972D-4A6D-91C6-815D46457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EB55-6610-499B-8398-78626C427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57D3-C5C7-459C-9527-6AEEBB2D1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6617-1938-412F-96C2-AE4FA835D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C018-C4C9-4DA2-ACD9-3BC1CDF05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38BB-B7F4-47CB-9155-E051ABF27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F62EA-9BFC-498F-959C-4B30D1B31D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B2B16-C856-4D90-B3B6-CB87447996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9.xml"/><Relationship Id="rId7" Type="http://schemas.openxmlformats.org/officeDocument/2006/relationships/slide" Target="slide11.xml"/><Relationship Id="rId8" Type="http://schemas.openxmlformats.org/officeDocument/2006/relationships/slide" Target="slide13.xml"/><Relationship Id="rId9" Type="http://schemas.openxmlformats.org/officeDocument/2006/relationships/slide" Target="slide33.xml"/><Relationship Id="rId10" Type="http://schemas.openxmlformats.org/officeDocument/2006/relationships/slide" Target="slide23.xml"/><Relationship Id="rId11" Type="http://schemas.openxmlformats.org/officeDocument/2006/relationships/slide" Target="slide43.xml"/><Relationship Id="rId12" Type="http://schemas.openxmlformats.org/officeDocument/2006/relationships/slide" Target="slide15.xml"/><Relationship Id="rId13" Type="http://schemas.openxmlformats.org/officeDocument/2006/relationships/slide" Target="slide25.xml"/><Relationship Id="rId14" Type="http://schemas.openxmlformats.org/officeDocument/2006/relationships/slide" Target="slide35.xml"/><Relationship Id="rId15" Type="http://schemas.openxmlformats.org/officeDocument/2006/relationships/slide" Target="slide45.xml"/><Relationship Id="rId16" Type="http://schemas.openxmlformats.org/officeDocument/2006/relationships/slide" Target="slide17.xml"/><Relationship Id="rId17" Type="http://schemas.openxmlformats.org/officeDocument/2006/relationships/slide" Target="slide27.xml"/><Relationship Id="rId18" Type="http://schemas.openxmlformats.org/officeDocument/2006/relationships/slide" Target="slide37.xml"/><Relationship Id="rId19" Type="http://schemas.openxmlformats.org/officeDocument/2006/relationships/slide" Target="slide47.xml"/><Relationship Id="rId20" Type="http://schemas.openxmlformats.org/officeDocument/2006/relationships/slide" Target="slide19.xml"/><Relationship Id="rId21" Type="http://schemas.openxmlformats.org/officeDocument/2006/relationships/slide" Target="slide29.xml"/><Relationship Id="rId22" Type="http://schemas.openxmlformats.org/officeDocument/2006/relationships/slide" Target="slide39.xml"/><Relationship Id="rId23" Type="http://schemas.openxmlformats.org/officeDocument/2006/relationships/slide" Target="slide49.xml"/><Relationship Id="rId24" Type="http://schemas.openxmlformats.org/officeDocument/2006/relationships/slide" Target="slide21.xml"/><Relationship Id="rId25" Type="http://schemas.openxmlformats.org/officeDocument/2006/relationships/slide" Target="slide31.xml"/><Relationship Id="rId26" Type="http://schemas.openxmlformats.org/officeDocument/2006/relationships/slide" Target="slide41.xml"/><Relationship Id="rId27" Type="http://schemas.openxmlformats.org/officeDocument/2006/relationships/slide" Target="slide51.xml"/><Relationship Id="rId28" Type="http://schemas.openxmlformats.org/officeDocument/2006/relationships/slide" Target="slide53.xml"/><Relationship Id="rId29" Type="http://schemas.openxmlformats.org/officeDocument/2006/relationships/image" Target="../media/image2.png"/><Relationship Id="rId30" Type="http://schemas.openxmlformats.org/officeDocument/2006/relationships/audio" Target="../media/jeop.wav"/><Relationship Id="rId3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9.xml"/><Relationship Id="rId7" Type="http://schemas.openxmlformats.org/officeDocument/2006/relationships/slide" Target="slide11.xml"/><Relationship Id="rId8" Type="http://schemas.openxmlformats.org/officeDocument/2006/relationships/slide" Target="slide13.xml"/><Relationship Id="rId9" Type="http://schemas.openxmlformats.org/officeDocument/2006/relationships/slide" Target="slide33.xml"/><Relationship Id="rId10" Type="http://schemas.openxmlformats.org/officeDocument/2006/relationships/slide" Target="slide23.xml"/><Relationship Id="rId11" Type="http://schemas.openxmlformats.org/officeDocument/2006/relationships/slide" Target="slide43.xml"/><Relationship Id="rId12" Type="http://schemas.openxmlformats.org/officeDocument/2006/relationships/slide" Target="slide15.xml"/><Relationship Id="rId13" Type="http://schemas.openxmlformats.org/officeDocument/2006/relationships/slide" Target="slide25.xml"/><Relationship Id="rId14" Type="http://schemas.openxmlformats.org/officeDocument/2006/relationships/slide" Target="slide35.xml"/><Relationship Id="rId15" Type="http://schemas.openxmlformats.org/officeDocument/2006/relationships/slide" Target="slide45.xml"/><Relationship Id="rId16" Type="http://schemas.openxmlformats.org/officeDocument/2006/relationships/slide" Target="slide17.xml"/><Relationship Id="rId17" Type="http://schemas.openxmlformats.org/officeDocument/2006/relationships/slide" Target="slide27.xml"/><Relationship Id="rId18" Type="http://schemas.openxmlformats.org/officeDocument/2006/relationships/slide" Target="slide37.xml"/><Relationship Id="rId19" Type="http://schemas.openxmlformats.org/officeDocument/2006/relationships/slide" Target="slide47.xml"/><Relationship Id="rId20" Type="http://schemas.openxmlformats.org/officeDocument/2006/relationships/slide" Target="slide19.xml"/><Relationship Id="rId21" Type="http://schemas.openxmlformats.org/officeDocument/2006/relationships/slide" Target="slide29.xml"/><Relationship Id="rId22" Type="http://schemas.openxmlformats.org/officeDocument/2006/relationships/slide" Target="slide39.xml"/><Relationship Id="rId23" Type="http://schemas.openxmlformats.org/officeDocument/2006/relationships/slide" Target="slide49.xml"/><Relationship Id="rId24" Type="http://schemas.openxmlformats.org/officeDocument/2006/relationships/slide" Target="slide21.xml"/><Relationship Id="rId25" Type="http://schemas.openxmlformats.org/officeDocument/2006/relationships/slide" Target="slide31.xml"/><Relationship Id="rId26" Type="http://schemas.openxmlformats.org/officeDocument/2006/relationships/slide" Target="slide41.xml"/><Relationship Id="rId27" Type="http://schemas.openxmlformats.org/officeDocument/2006/relationships/slide" Target="slide51.xml"/><Relationship Id="rId28" Type="http://schemas.openxmlformats.org/officeDocument/2006/relationships/slide" Target="slide53.xml"/><Relationship Id="rId2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Times New Roman"/>
              </a:rPr>
              <a:t>Jeopardy</a:t>
            </a:r>
            <a:endParaRPr b="0" lang="en-US" sz="8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762120" y="1533600"/>
          <a:ext cx="7775280" cy="4637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33600"/>
                    <a:ext cx="7775280" cy="463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2438280" y="1676520"/>
            <a:ext cx="144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Budgeting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62520" y="16765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d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562720" y="167652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es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935040" y="1676520"/>
            <a:ext cx="129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k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402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3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00720" y="3241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00720" y="400356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5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00720" y="47656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6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00720" y="5527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1676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8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56488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9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406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0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0124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1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676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2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406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3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56488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0124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5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1676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6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96468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7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54112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8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2440" y="40384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9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16760" y="47242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0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0406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1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6488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2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0124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3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676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4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0406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5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56488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6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0124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770160" y="6324480"/>
            <a:ext cx="1986840" cy="4597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8" action="ppaction://hlinksldjump"/>
              </a:rPr>
              <a:t>Final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9"/>
          <a:stretch/>
        </p:blipFill>
        <p:spPr>
          <a:xfrm>
            <a:off x="228600" y="6400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914400" y="1676520"/>
            <a:ext cx="144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Basic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576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4576"/>
                            </p:stCondLst>
                            <p:childTnLst>
                              <p:par>
                                <p:cTn id="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je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7576"/>
                            </p:stCondLst>
                            <p:childTnLst>
                              <p:par>
                                <p:cTn id="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2576"/>
                            </p:stCondLst>
                            <p:childTnLst>
                              <p:par>
                                <p:cTn id="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7576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2576"/>
                            </p:stCondLst>
                            <p:childTnLst>
                              <p:par>
                                <p:cTn id="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7576"/>
                            </p:stCondLst>
                            <p:childTnLst>
                              <p:par>
                                <p:cTn id="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ow much did you wager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446480" y="2971800"/>
            <a:ext cx="634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at is the 12 oz Pepsi?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05920" y="6229440"/>
            <a:ext cx="83808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Times New Roman"/>
              </a:rPr>
              <a:t>Basics $500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1080" y="2590920"/>
            <a:ext cx="8265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economic problem of unlimite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ants and limited resource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Times New Roman"/>
              </a:rPr>
              <a:t>For $500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436480" y="2514600"/>
            <a:ext cx="4382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at is scarcity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05920" y="6229440"/>
            <a:ext cx="83808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Times New Roman"/>
              </a:rPr>
              <a:t>Budgeting $100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828800" y="2743200"/>
            <a:ext cx="58071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A plan for spending and saving money during a particular period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Times New Roman"/>
              </a:rPr>
              <a:t>For $100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360880" y="2895480"/>
            <a:ext cx="4568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at is a budget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05920" y="6229440"/>
            <a:ext cx="83808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Times New Roman"/>
              </a:rPr>
              <a:t>Budgeting $200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824840" y="2438280"/>
            <a:ext cx="5609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n individual’s income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fore taxes are paid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Times New Roman"/>
              </a:rPr>
              <a:t>For $200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130480" y="2819520"/>
            <a:ext cx="526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gross incom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05920" y="6229440"/>
            <a:ext cx="83808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Times New Roman"/>
              </a:rPr>
              <a:t>Budgeting $300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13080" y="1981080"/>
            <a:ext cx="8280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following expense that is “fixed.”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) gasolin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) telephon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) r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) electricit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Times New Roman"/>
              </a:rPr>
              <a:t>For $300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7040" y="2743200"/>
            <a:ext cx="3164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ren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05920" y="6229440"/>
            <a:ext cx="83808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Times New Roman"/>
              </a:rPr>
              <a:t>Budgeting $400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07920" y="2514600"/>
            <a:ext cx="773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ices increasing as time goes by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Times New Roman"/>
              </a:rPr>
              <a:t>Jeopardy</a:t>
            </a:r>
            <a:endParaRPr b="0" lang="en-US" sz="8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62120" y="1533600"/>
          <a:ext cx="7775280" cy="4637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33600"/>
                    <a:ext cx="7775280" cy="463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2438280" y="1676520"/>
            <a:ext cx="144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Budgeting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962520" y="16765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d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562720" y="167652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es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935040" y="1676520"/>
            <a:ext cx="129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k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02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3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00720" y="3241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00720" y="400356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5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00720" y="47656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6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00720" y="5527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51676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8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56488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9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0406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0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0124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1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51676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2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0406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3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6488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0124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5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1676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6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96468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7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54112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8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12440" y="40384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9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16760" y="47242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0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0406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1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56488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2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0124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3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1676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4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0406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5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56488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6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0124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770160" y="6324480"/>
            <a:ext cx="1986840" cy="4597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8" action="ppaction://hlinksldjump"/>
              </a:rPr>
              <a:t>Final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14400" y="1676520"/>
            <a:ext cx="144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Basic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Times New Roman"/>
              </a:rPr>
              <a:t>For $400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436480" y="2743200"/>
            <a:ext cx="4191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inflation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8305920" y="6229440"/>
            <a:ext cx="83808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Times New Roman"/>
              </a:rPr>
              <a:t>Budgeting $500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371600" y="2438280"/>
            <a:ext cx="6773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you get when you subtrac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iabilities from asset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Times New Roman"/>
              </a:rPr>
              <a:t>For $500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359440" y="2819520"/>
            <a:ext cx="442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net worth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8305920" y="6229440"/>
            <a:ext cx="83808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Times New Roman"/>
              </a:rPr>
              <a:t>Credit $100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50960" y="2467080"/>
            <a:ext cx="8017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a credit card company charg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en you fail to pay your bill on tim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Times New Roman"/>
              </a:rPr>
              <a:t>For $100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359800" y="2895480"/>
            <a:ext cx="431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a late fe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8305920" y="6229440"/>
            <a:ext cx="83808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Times New Roman"/>
              </a:rPr>
              <a:t>Credit $200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10560" y="2514600"/>
            <a:ext cx="8000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process of moving one credit car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alance to another credit card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Times New Roman"/>
              </a:rPr>
              <a:t>For $200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830600" y="2895480"/>
            <a:ext cx="568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a balance transfer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8305920" y="6229440"/>
            <a:ext cx="83808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Times New Roman"/>
              </a:rPr>
              <a:t>Credit $300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057680" y="2438280"/>
            <a:ext cx="723384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What a credit card company charges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when you carry a balance from one 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billing cycle to the next.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Times New Roman"/>
              </a:rPr>
              <a:t>For $300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29880" y="2895480"/>
            <a:ext cx="564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a finance charg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(Also acceptable: interest.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8305920" y="6229440"/>
            <a:ext cx="83808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Times New Roman"/>
              </a:rPr>
              <a:t>Credit $400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37680" y="2314440"/>
            <a:ext cx="8692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amount of money that you ow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efore any interest or charges are applied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Times New Roman"/>
              </a:rPr>
              <a:t>Basics $100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05120" y="2133720"/>
            <a:ext cx="55782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 “want” not a “need”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. shelt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. medicin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. ca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. foo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Times New Roman"/>
              </a:rPr>
              <a:t>For $400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591640" y="2666880"/>
            <a:ext cx="390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principal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8305920" y="6229440"/>
            <a:ext cx="83808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Times New Roman"/>
              </a:rPr>
              <a:t>Credit $500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6160" y="2590920"/>
            <a:ext cx="7860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actor that includes all the cos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f repaying the money you borrowed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Times New Roman"/>
              </a:rPr>
              <a:t>For $500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59720" y="2743200"/>
            <a:ext cx="84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Annual Percentage Rate (APR)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305920" y="6229440"/>
            <a:ext cx="83808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Times New Roman"/>
              </a:rPr>
              <a:t>Investing $100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828800" y="2286000"/>
            <a:ext cx="5715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 investment that represents ownership in a company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Times New Roman"/>
              </a:rPr>
              <a:t>For $100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512080" y="2819520"/>
            <a:ext cx="4004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are stocks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8305920" y="6229440"/>
            <a:ext cx="83808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Times New Roman"/>
              </a:rPr>
              <a:t>Investing $200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5320" y="2590920"/>
            <a:ext cx="6182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preading your money ov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everal different investment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Times New Roman"/>
              </a:rPr>
              <a:t>Investing $200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057760" y="2971800"/>
            <a:ext cx="503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diversification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8305920" y="6229440"/>
            <a:ext cx="83808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Times New Roman"/>
              </a:rPr>
              <a:t>Investing $300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135800" y="2514600"/>
            <a:ext cx="699012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The ease with which an investment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can be turned into cash without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significant loss of value. 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Times New Roman"/>
              </a:rPr>
              <a:t>For $300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360520" y="2666880"/>
            <a:ext cx="419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liquidity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8305920" y="6229440"/>
            <a:ext cx="83808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Times New Roman"/>
              </a:rPr>
              <a:t>Investing $400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991800" y="2590920"/>
            <a:ext cx="7282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portion of a company’s profi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aid out to shareholder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Times New Roman"/>
              </a:rPr>
              <a:t>For $100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11320" y="3179880"/>
            <a:ext cx="336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a ca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05920" y="6229440"/>
            <a:ext cx="83808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Times New Roman"/>
              </a:rPr>
              <a:t>For $400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282400" y="2971800"/>
            <a:ext cx="464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a dividend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6229440"/>
            <a:ext cx="83808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Times New Roman"/>
              </a:rPr>
              <a:t>Investing $500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49400" y="2286000"/>
            <a:ext cx="886896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Times New Roman"/>
              </a:rPr>
              <a:t>The degree of uncertainty about the expected 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Times New Roman"/>
              </a:rPr>
              <a:t>return from an investment, including 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Times New Roman"/>
              </a:rPr>
              <a:t>the possibility that some or all of the 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Times New Roman"/>
              </a:rPr>
              <a:t>investment might be lost.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Times New Roman"/>
              </a:rPr>
              <a:t>For $500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049920" y="2590920"/>
            <a:ext cx="286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risk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8305920" y="6229440"/>
            <a:ext cx="83808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Times New Roman"/>
              </a:rPr>
              <a:t>Banking $100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058400" y="2666880"/>
            <a:ext cx="735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oney that you put into a bank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Times New Roman"/>
              </a:rPr>
              <a:t>For $100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3120" y="2895480"/>
            <a:ext cx="430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a depos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8305920" y="6229440"/>
            <a:ext cx="83808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Times New Roman"/>
              </a:rPr>
              <a:t>Banking $200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905760" y="2971800"/>
            <a:ext cx="747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oney you take out of the bank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Times New Roman"/>
              </a:rPr>
              <a:t>For $200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77840" y="3048120"/>
            <a:ext cx="520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a withdrawal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305920" y="6229440"/>
            <a:ext cx="83808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Times New Roman"/>
              </a:rPr>
              <a:t>Banking $300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218240" y="2895480"/>
            <a:ext cx="6747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oney you can earn from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keeping your money in the bank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Times New Roman"/>
              </a:rPr>
              <a:t>For $300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89120" y="2971800"/>
            <a:ext cx="394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interes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6229440"/>
            <a:ext cx="83808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Times New Roman"/>
              </a:rPr>
              <a:t>Banking $400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1640" y="2895480"/>
            <a:ext cx="6151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business deal done, or any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ransfer of money in or out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f a bank account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Times New Roman"/>
              </a:rPr>
              <a:t>Basics $200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2280" y="1905120"/>
            <a:ext cx="8991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money Jamal earns from his landscaping business where each week he mows lawns, pulls weeds, and trims hedges. He is paid by the hour. 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. deb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. pr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. inco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. sav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Times New Roman"/>
              </a:rPr>
              <a:t>For $400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210760" y="3200400"/>
            <a:ext cx="468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a transaction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8305920" y="6229440"/>
            <a:ext cx="83808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Banking DAILY DOUBLE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How much will you wager?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441080" y="2666880"/>
            <a:ext cx="6249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loan given to you for t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urpose of buying a house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155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" dur="1155" fill="hold"/>
                                        <p:tgtEl>
                                          <p:spTgt spid="2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2" dur="1155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4" dur="1155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4628" fill="hold"/>
                                        <p:tgtEl>
                                          <p:spTgt spid="2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628"/>
                            </p:stCondLst>
                            <p:childTnLst>
                              <p:par>
                                <p:cTn id="89" nodeType="after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1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92" dur="1230" fill="hold"/>
                                        <p:tgtEl>
                                          <p:spTgt spid="292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93" dur="123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94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95" dur="123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96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Banking DAILY DOUBLE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How much did you wager?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130840" y="3048120"/>
            <a:ext cx="4797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a mortgag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8305920" y="6229440"/>
            <a:ext cx="83808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8458200" y="61722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2133720" y="1981080"/>
            <a:ext cx="4892400" cy="41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imes New Roman"/>
              </a:rPr>
              <a:t>Define the components of this formula (</a:t>
            </a:r>
            <a:r>
              <a:rPr b="1" i="1" lang="en-US" sz="3800" spc="-1" strike="noStrike">
                <a:solidFill>
                  <a:srgbClr val="ffffff"/>
                </a:solidFill>
                <a:latin typeface="Times New Roman"/>
              </a:rPr>
              <a:t>hint:</a:t>
            </a:r>
            <a:r>
              <a:rPr b="1" lang="en-US" sz="3800" spc="-1" strike="noStrike">
                <a:solidFill>
                  <a:srgbClr val="ffffff"/>
                </a:solidFill>
                <a:latin typeface="Times New Roman"/>
              </a:rPr>
              <a:t> It’s the formula for calculating simple interest) </a:t>
            </a:r>
            <a:br>
              <a:rPr sz="3800"/>
            </a:br>
            <a:br>
              <a:rPr sz="3800"/>
            </a:br>
            <a:r>
              <a:rPr b="1" i="1" lang="en-US" sz="3800" spc="-1" strike="noStrike">
                <a:solidFill>
                  <a:srgbClr val="ffffff"/>
                </a:solidFill>
                <a:latin typeface="Times New Roman"/>
              </a:rPr>
              <a:t>I = P x R x T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restart="whenNotActive" nodeType="interactiveSeq" fill="hold">
                <p:stCondLst>
                  <p:cond evt="onClick">
                    <p:tgtEl>
                      <p:spTgt spid="298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298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31574" fill="hold"/>
                                        <p:tgtEl>
                                          <p:spTgt spid="2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 Answer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8305920" y="6229440"/>
            <a:ext cx="838080" cy="62856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762120" y="2819520"/>
            <a:ext cx="761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terest = principal x rate x tim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Times New Roman"/>
              </a:rPr>
              <a:t>For $200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37560" y="2819520"/>
            <a:ext cx="428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at is income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05920" y="6229440"/>
            <a:ext cx="83808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Times New Roman"/>
              </a:rPr>
              <a:t>Basics $300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06840" y="2819520"/>
            <a:ext cx="747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a good or service is worth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Times New Roman"/>
              </a:rPr>
              <a:t>For $300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817720" y="2514600"/>
            <a:ext cx="350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valu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05920" y="6229440"/>
            <a:ext cx="83808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Basics  DAILY DOUBLE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How much will you wager?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676520" y="2133720"/>
            <a:ext cx="5959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ich is the better deal – a 20-ounce Pepsi for $2.89 or a 12-ounce Pepsi for $1.59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) the 20-ounce Peps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) the 12-ounce Peps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155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" dur="1155" fill="hold"/>
                                        <p:tgtEl>
                                          <p:spTgt spid="1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" dur="1155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" dur="1155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4628" fill="hold"/>
                                        <p:tgtEl>
                                          <p:spTgt spid="1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628"/>
                            </p:stCondLst>
                            <p:childTnLst>
                              <p:par>
                                <p:cTn id="59" nodeType="after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62" dur="1230" fill="hold"/>
                                        <p:tgtEl>
                                          <p:spTgt spid="185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63" dur="123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64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65" dur="123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66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2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7T14:16:32Z</dcterms:created>
  <dc:creator>SCPS</dc:creator>
  <dc:description/>
  <dc:language>en-US</dc:language>
  <cp:lastModifiedBy>Robert</cp:lastModifiedBy>
  <dcterms:modified xsi:type="dcterms:W3CDTF">2009-07-27T22:09:07Z</dcterms:modified>
  <cp:revision>37</cp:revision>
  <dc:subject/>
  <dc:title>Jeopardy</dc:title>
</cp:coreProperties>
</file>